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CFE-E3A1-4D5D-8D08-F0D6501D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5FB-975E-4EAE-A576-5565CC0B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F5A-2323-4BA7-B839-3ACFF552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44D-8000-476C-AAF1-F4ABE723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3B2-16DD-478E-8C0F-027B9B4F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0BF-7430-4C96-8B04-03941C2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7C1-F77A-401A-B50A-6110106C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BEE-256F-4BE3-A290-5C8C3E47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E67-A79E-4DEB-A7D7-332770F3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5F9-8D4A-447A-BF91-CB07AA27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DD6-2410-4A1D-BF1C-A562CB9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F49-4D6F-4CA0-A4DB-EB32951D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DD6-1DC3-4F64-8644-55C4FE0E8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8720" y="1653840"/>
            <a:ext cx="78994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of a Contin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3800" y="4029120"/>
            <a:ext cx="468324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Case Study: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n Appeal to M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80160" y="4057560"/>
            <a:ext cx="347976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38844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65280" y="2250720"/>
            <a:ext cx="908352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In this project, students assume the role of regional geographers traveling an assigned area of Africa. As a member of a fact-finding investigative team, they will collect and present data and pertinent information to support their proposal that geographical features affect the living standards and quality of life throughout Afric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The students will present their findings to a non-profit organization, Making A Perfect Society (MAPS). Their findings and recommendations will be used by MAPS to help determine the need for cultural improvements for that reg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1480" y="2251080"/>
            <a:ext cx="85392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92929"/>
                </a:solidFill>
                <a:latin typeface="Arial"/>
              </a:rPr>
              <a:t>Student representatives are appointed to fact-finding committees to research the historical development as well as current issues that contribute to Africa’s poverty levels. They are to develop a proposal for addressing the problem, using supportive multimedi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13640" y="5114880"/>
            <a:ext cx="2546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1480" y="2251080"/>
            <a:ext cx="85392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292929"/>
                </a:solidFill>
                <a:latin typeface="Arial"/>
              </a:rPr>
              <a:t>Essential Ques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y is geography importan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292929"/>
                </a:solidFill>
                <a:latin typeface="Arial"/>
              </a:rPr>
              <a:t>Unit Ques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How does </a:t>
            </a: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where</a:t>
            </a: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 people live impact </a:t>
            </a: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ow</a:t>
            </a: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 they liv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at are the key obstacles affecting the development of Afr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at suggestions can be offered to improve the future of life in Afr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 Continu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02960" y="2251080"/>
            <a:ext cx="8537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92929"/>
                </a:solidFill>
                <a:latin typeface="Arial"/>
              </a:rPr>
              <a:t>Content Ques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at physical characteristics describe your reg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How does the demographics of your region influence the standard of living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at physical and cultural resources influence the development of the reg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ich past or current issues in your region affect the global econom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of a Conti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41480" y="2251080"/>
            <a:ext cx="85392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his project will help my students develop 21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 Century skills b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ollaborating with pe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Analyzing data and offering solutions for Africa’s problems with pover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ommunicating through blogs, virtual postca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lf-directed learning through resear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ritical thinking – offering solutions for relief of Africa’s pressing issu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reativity – postcards, photos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79240" y="1913040"/>
            <a:ext cx="900108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Purpose of the Assess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o gauge what students already know about the continent of Africa and the problems faced by the people living the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What I want to learn from my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Do students have an understanding of obstacles faced throughout Africa and how they impact the quality of life. To see what misconceptions students may have about Afric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ow I have tried to promote higher- order thinking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he questions target issues that students will research. They will use higher-order thinking and 21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 century skills to analyze and develop solutions for these issu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ing Student Needs Assessment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1480" y="2251080"/>
            <a:ext cx="85392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ow the assessment information helps me and my students plan for upcoming activities in the uni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Teacher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elps to determine topics of stu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elps with placement of student work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Student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Basis of inquiry and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e 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02960" y="1742760"/>
            <a:ext cx="853740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Develop student understanding of current African cultu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Understanding the local obstacles of life in Africa and how these obstacles translate to the world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Expand and refine the technology skills of the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Develop student’s higher level of thinking skills as they look for solutions and make recommend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ultivate in students a need for global awareness and involv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